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apbig0g.wav" ContentType="audio/x-wav"/>
  <Override PartName="/ppt/media/bserie06.wav" ContentType="audio/x-wav"/>
  <Override PartName="/ppt/media/jetflyby2.wav" ContentType="audio/x-wav"/>
  <Override PartName="/ppt/media/caralarmoff.wav" ContentType="audio/x-wav"/>
  <Override PartName="/ppt/media/lzipup01.wav" ContentType="audio/x-wav"/>
  <Override PartName="/ppt/media/hzipup01.wav" ContentType="audio/x-wav"/>
  <Override PartName="/ppt/media/highchime.wav" ContentType="audio/x-wav"/>
  <Override PartName="/ppt/media/meepmeep.wav" ContentType="audio/x-wav"/>
  <Override PartName="/ppt/media/image1.gif" ContentType="image/gif"/>
  <Override PartName="/ppt/media/peopleooo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09E1-9A0C-4FAC-8E92-B1F40C035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17A4-203B-42F9-9E0D-6DA94E3F0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A430-1FEE-44EC-A6BA-179F6DC22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3FCB-1133-4ECC-B2F1-9EF3A111D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9B2B-971B-495C-925C-05E659E96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0D75-4795-436A-BDBB-142B18D81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FEC2-5C7C-4AD2-93CC-1B75494E1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60ED-8AF9-4ACE-9109-2B59D84ED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8608-D740-4CE2-8184-FDCF97691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326C-544E-4B8B-8D41-07957685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C585-379D-4039-AA22-3245CDD1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B4EC-7D41-4245-9101-98D86804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15736-1DA7-42AA-8E6B-E849043C6B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caralarmoff.wav"/><Relationship Id="rId4" Type="http://schemas.openxmlformats.org/officeDocument/2006/relationships/audio" Target="../media/bserie06.wav"/><Relationship Id="rId5" Type="http://schemas.openxmlformats.org/officeDocument/2006/relationships/audio" Target="../media/hzipup01.wav"/><Relationship Id="rId6" Type="http://schemas.openxmlformats.org/officeDocument/2006/relationships/audio" Target="../media/caralarmoff.wav"/><Relationship Id="rId7" Type="http://schemas.openxmlformats.org/officeDocument/2006/relationships/audio" Target="../media/caralarmoff.wav"/><Relationship Id="rId8" Type="http://schemas.openxmlformats.org/officeDocument/2006/relationships/audio" Target="../media/meepmeep.wav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peopleooo.wav"/><Relationship Id="rId8" Type="http://schemas.openxmlformats.org/officeDocument/2006/relationships/audio" Target="../media/bserie06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bserie06.wav"/><Relationship Id="rId12" Type="http://schemas.openxmlformats.org/officeDocument/2006/relationships/audio" Target="../media/bserie06.wav"/><Relationship Id="rId13" Type="http://schemas.openxmlformats.org/officeDocument/2006/relationships/audio" Target="../media/peopleooo.wav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peopleooo.wav"/><Relationship Id="rId6" Type="http://schemas.openxmlformats.org/officeDocument/2006/relationships/audio" Target="../media/hzipup01.wav"/><Relationship Id="rId7" Type="http://schemas.openxmlformats.org/officeDocument/2006/relationships/audio" Target="../media/jetflyby2.wav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bserie06.wav"/><Relationship Id="rId3" Type="http://schemas.openxmlformats.org/officeDocument/2006/relationships/audio" Target="../media/hzipup01.wav"/><Relationship Id="rId4" Type="http://schemas.openxmlformats.org/officeDocument/2006/relationships/audio" Target="../media/caralarmoff.wav"/><Relationship Id="rId5" Type="http://schemas.openxmlformats.org/officeDocument/2006/relationships/audio" Target="../media/caralarmoff.wav"/><Relationship Id="rId6" Type="http://schemas.openxmlformats.org/officeDocument/2006/relationships/audio" Target="../media/meepmeep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caralarmoff.wav"/><Relationship Id="rId3" Type="http://schemas.openxmlformats.org/officeDocument/2006/relationships/audio" Target="../media/bserie06.wav"/><Relationship Id="rId4" Type="http://schemas.openxmlformats.org/officeDocument/2006/relationships/audio" Target="../media/hzipup01.wav"/><Relationship Id="rId5" Type="http://schemas.openxmlformats.org/officeDocument/2006/relationships/audio" Target="../media/caralarmoff.wav"/><Relationship Id="rId6" Type="http://schemas.openxmlformats.org/officeDocument/2006/relationships/audio" Target="../media/caralarmoff.wav"/><Relationship Id="rId7" Type="http://schemas.openxmlformats.org/officeDocument/2006/relationships/audio" Target="../media/meepmeep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bserie06.wav"/><Relationship Id="rId3" Type="http://schemas.openxmlformats.org/officeDocument/2006/relationships/audio" Target="../media/hzipup01.wav"/><Relationship Id="rId4" Type="http://schemas.openxmlformats.org/officeDocument/2006/relationships/audio" Target="../media/caralarmoff.wav"/><Relationship Id="rId5" Type="http://schemas.openxmlformats.org/officeDocument/2006/relationships/audio" Target="../media/caralarmoff.wav"/><Relationship Id="rId6" Type="http://schemas.openxmlformats.org/officeDocument/2006/relationships/audio" Target="../media/meepmeep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hzipup01.wav"/><Relationship Id="rId6" Type="http://schemas.openxmlformats.org/officeDocument/2006/relationships/audio" Target="../media/jetflyby2.wav"/><Relationship Id="rId7" Type="http://schemas.openxmlformats.org/officeDocument/2006/relationships/audio" Target="../media/bserie06.wav"/><Relationship Id="rId8" Type="http://schemas.openxmlformats.org/officeDocument/2006/relationships/audio" Target="../media/jetflyby2.wav"/><Relationship Id="rId9" Type="http://schemas.openxmlformats.org/officeDocument/2006/relationships/audio" Target="../media/bserie06.wav"/><Relationship Id="rId10" Type="http://schemas.openxmlformats.org/officeDocument/2006/relationships/audio" Target="../media/hzipup01.wav"/><Relationship Id="rId11" Type="http://schemas.openxmlformats.org/officeDocument/2006/relationships/audio" Target="../media/bserie06.wav"/><Relationship Id="rId12" Type="http://schemas.openxmlformats.org/officeDocument/2006/relationships/audio" Target="../media/zapbig0g.wav"/><Relationship Id="rId13" Type="http://schemas.openxmlformats.org/officeDocument/2006/relationships/audio" Target="../media/bserie06.wav"/><Relationship Id="rId14" Type="http://schemas.openxmlformats.org/officeDocument/2006/relationships/audio" Target="../media/bserie06.wav"/><Relationship Id="rId15" Type="http://schemas.openxmlformats.org/officeDocument/2006/relationships/audio" Target="../media/bserie06.wav"/><Relationship Id="rId16" Type="http://schemas.openxmlformats.org/officeDocument/2006/relationships/audio" Target="../media/hzipup01.wav"/><Relationship Id="rId17" Type="http://schemas.openxmlformats.org/officeDocument/2006/relationships/audio" Target="../media/jetflyby2.wav"/><Relationship Id="rId18" Type="http://schemas.openxmlformats.org/officeDocument/2006/relationships/audio" Target="../media/bserie06.wav"/><Relationship Id="rId19" Type="http://schemas.openxmlformats.org/officeDocument/2006/relationships/audio" Target="../media/jetflyby2.wav"/><Relationship Id="rId20" Type="http://schemas.openxmlformats.org/officeDocument/2006/relationships/audio" Target="../media/bserie06.wav"/><Relationship Id="rId21" Type="http://schemas.openxmlformats.org/officeDocument/2006/relationships/audio" Target="../media/hzipup01.wav"/><Relationship Id="rId22" Type="http://schemas.openxmlformats.org/officeDocument/2006/relationships/audio" Target="../media/bserie06.wav"/><Relationship Id="rId23" Type="http://schemas.openxmlformats.org/officeDocument/2006/relationships/audio" Target="../media/zapbig0g.wav"/><Relationship Id="rId2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hzipup01.wav"/><Relationship Id="rId6" Type="http://schemas.openxmlformats.org/officeDocument/2006/relationships/audio" Target="../media/jetflyby2.wav"/><Relationship Id="rId7" Type="http://schemas.openxmlformats.org/officeDocument/2006/relationships/audio" Target="../media/jetflyby2.wav"/><Relationship Id="rId8" Type="http://schemas.openxmlformats.org/officeDocument/2006/relationships/audio" Target="../media/jetflyby2.wav"/><Relationship Id="rId9" Type="http://schemas.openxmlformats.org/officeDocument/2006/relationships/audio" Target="../media/jetflyby2.wav"/><Relationship Id="rId10" Type="http://schemas.openxmlformats.org/officeDocument/2006/relationships/audio" Target="../media/bserie06.wav"/><Relationship Id="rId11" Type="http://schemas.openxmlformats.org/officeDocument/2006/relationships/audio" Target="../media/jetflyby2.wav"/><Relationship Id="rId12" Type="http://schemas.openxmlformats.org/officeDocument/2006/relationships/audio" Target="../media/bserie06.wav"/><Relationship Id="rId13" Type="http://schemas.openxmlformats.org/officeDocument/2006/relationships/audio" Target="../media/hzipup01.wav"/><Relationship Id="rId14" Type="http://schemas.openxmlformats.org/officeDocument/2006/relationships/audio" Target="../media/bserie06.wav"/><Relationship Id="rId15" Type="http://schemas.openxmlformats.org/officeDocument/2006/relationships/audio" Target="../media/zapbig0g.wav"/><Relationship Id="rId16" Type="http://schemas.openxmlformats.org/officeDocument/2006/relationships/audio" Target="../media/bserie06.wav"/><Relationship Id="rId17" Type="http://schemas.openxmlformats.org/officeDocument/2006/relationships/audio" Target="../media/peopleooo.wav"/><Relationship Id="rId18" Type="http://schemas.openxmlformats.org/officeDocument/2006/relationships/audio" Target="../media/bserie06.wav"/><Relationship Id="rId19" Type="http://schemas.openxmlformats.org/officeDocument/2006/relationships/audio" Target="../media/bserie06.wav"/><Relationship Id="rId20" Type="http://schemas.openxmlformats.org/officeDocument/2006/relationships/audio" Target="../media/bserie06.wav"/><Relationship Id="rId21" Type="http://schemas.openxmlformats.org/officeDocument/2006/relationships/audio" Target="../media/hzipup01.wav"/><Relationship Id="rId22" Type="http://schemas.openxmlformats.org/officeDocument/2006/relationships/audio" Target="../media/jetflyby2.wav"/><Relationship Id="rId23" Type="http://schemas.openxmlformats.org/officeDocument/2006/relationships/audio" Target="../media/jetflyby2.wav"/><Relationship Id="rId24" Type="http://schemas.openxmlformats.org/officeDocument/2006/relationships/audio" Target="../media/jetflyby2.wav"/><Relationship Id="rId25" Type="http://schemas.openxmlformats.org/officeDocument/2006/relationships/audio" Target="../media/jetflyby2.wav"/><Relationship Id="rId26" Type="http://schemas.openxmlformats.org/officeDocument/2006/relationships/audio" Target="../media/bserie06.wav"/><Relationship Id="rId27" Type="http://schemas.openxmlformats.org/officeDocument/2006/relationships/audio" Target="../media/jetflyby2.wav"/><Relationship Id="rId28" Type="http://schemas.openxmlformats.org/officeDocument/2006/relationships/audio" Target="../media/bserie06.wav"/><Relationship Id="rId29" Type="http://schemas.openxmlformats.org/officeDocument/2006/relationships/audio" Target="../media/hzipup01.wav"/><Relationship Id="rId30" Type="http://schemas.openxmlformats.org/officeDocument/2006/relationships/audio" Target="../media/bserie06.wav"/><Relationship Id="rId31" Type="http://schemas.openxmlformats.org/officeDocument/2006/relationships/audio" Target="../media/zapbig0g.wav"/><Relationship Id="rId32" Type="http://schemas.openxmlformats.org/officeDocument/2006/relationships/audio" Target="../media/bserie06.wav"/><Relationship Id="rId33" Type="http://schemas.openxmlformats.org/officeDocument/2006/relationships/audio" Target="../media/peopleooo.wav"/><Relationship Id="rId3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caralarmoff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peopleooo.wav"/><Relationship Id="rId8" Type="http://schemas.openxmlformats.org/officeDocument/2006/relationships/audio" Target="../media/bserie06.wav"/><Relationship Id="rId9" Type="http://schemas.openxmlformats.org/officeDocument/2006/relationships/audio" Target="../media/caralarmoff.wav"/><Relationship Id="rId10" Type="http://schemas.openxmlformats.org/officeDocument/2006/relationships/audio" Target="../media/bserie06.wav"/><Relationship Id="rId11" Type="http://schemas.openxmlformats.org/officeDocument/2006/relationships/audio" Target="../media/bserie06.wav"/><Relationship Id="rId12" Type="http://schemas.openxmlformats.org/officeDocument/2006/relationships/audio" Target="../media/bserie06.wav"/><Relationship Id="rId13" Type="http://schemas.openxmlformats.org/officeDocument/2006/relationships/audio" Target="../media/peopleooo.wav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zapbig0g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bserie06.wav"/><Relationship Id="rId9" Type="http://schemas.openxmlformats.org/officeDocument/2006/relationships/audio" Target="../media/peopleooo.wav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highchime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bserie06.wav"/><Relationship Id="rId9" Type="http://schemas.openxmlformats.org/officeDocument/2006/relationships/audio" Target="../media/peopleooo.wav"/><Relationship Id="rId10" Type="http://schemas.openxmlformats.org/officeDocument/2006/relationships/audio" Target="../media/bserie06.wav"/><Relationship Id="rId11" Type="http://schemas.openxmlformats.org/officeDocument/2006/relationships/audio" Target="../media/bserie06.wav"/><Relationship Id="rId12" Type="http://schemas.openxmlformats.org/officeDocument/2006/relationships/audio" Target="../media/bserie06.wav"/><Relationship Id="rId13" Type="http://schemas.openxmlformats.org/officeDocument/2006/relationships/audio" Target="../media/peopleooo.wav"/><Relationship Id="rId14" Type="http://schemas.openxmlformats.org/officeDocument/2006/relationships/audio" Target="../media/hzipup01.wav"/><Relationship Id="rId15" Type="http://schemas.openxmlformats.org/officeDocument/2006/relationships/audio" Target="../media/jetflyby2.wav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1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Round each number to the given place valu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190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1. Round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8.7398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to the nearest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11440" y="1190520"/>
            <a:ext cx="85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2200" y="1833480"/>
            <a:ext cx="438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0840" y="1903320"/>
            <a:ext cx="201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a. ten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6560" y="5943600"/>
            <a:ext cx="254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8.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600280"/>
            <a:ext cx="4268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Times New Roman"/>
              </a:rPr>
              <a:t>Since the 3 in the hundredths place is lower than 5, the 7 in the tenths place stays a 7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4782960"/>
            <a:ext cx="464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Times New Roman"/>
              </a:rPr>
              <a:t>        </a:t>
            </a:r>
            <a:r>
              <a:rPr b="0" lang="en-US" sz="3600" spc="-1" strike="noStrike">
                <a:solidFill>
                  <a:srgbClr val="663300"/>
                </a:solidFill>
                <a:latin typeface="Times New Roman"/>
              </a:rPr>
              <a:t>Drop everything past the 7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2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Estimate by using Compatible Number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7280" y="1212840"/>
            <a:ext cx="357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3.  38.9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27400" y="1189080"/>
            <a:ext cx="178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1.7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49280" y="1925640"/>
            <a:ext cx="125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3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471840" y="1965240"/>
            <a:ext cx="8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13160" y="1963800"/>
            <a:ext cx="218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= 1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2589120" y="628560"/>
            <a:ext cx="743040" cy="1549800"/>
            <a:chOff x="2589120" y="628560"/>
            <a:chExt cx="743040" cy="1549800"/>
          </a:xfrm>
        </p:grpSpPr>
        <p:sp>
          <p:nvSpPr>
            <p:cNvPr id="190" name=""/>
            <p:cNvSpPr/>
            <p:nvPr/>
          </p:nvSpPr>
          <p:spPr>
            <a:xfrm>
              <a:off x="2658960" y="628560"/>
              <a:ext cx="662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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70120" y="987120"/>
              <a:ext cx="662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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589120" y="1725480"/>
              <a:ext cx="56664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2558880" y="1292400"/>
            <a:ext cx="780840" cy="1618200"/>
            <a:chOff x="2558880" y="1292400"/>
            <a:chExt cx="780840" cy="1618200"/>
          </a:xfrm>
        </p:grpSpPr>
        <p:sp>
          <p:nvSpPr>
            <p:cNvPr id="194" name=""/>
            <p:cNvSpPr/>
            <p:nvPr/>
          </p:nvSpPr>
          <p:spPr>
            <a:xfrm>
              <a:off x="2666880" y="1719360"/>
              <a:ext cx="65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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680920" y="1292400"/>
              <a:ext cx="65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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558880" y="2421000"/>
              <a:ext cx="62532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290520" y="3100320"/>
            <a:ext cx="357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4.  82.52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62200" y="3062160"/>
            <a:ext cx="178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4.2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638360" y="4013280"/>
            <a:ext cx="125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8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60920" y="4022640"/>
            <a:ext cx="8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602240" y="4021200"/>
            <a:ext cx="218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= 2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2894040" y="2502000"/>
            <a:ext cx="743040" cy="1549800"/>
            <a:chOff x="2894040" y="2502000"/>
            <a:chExt cx="743040" cy="1549800"/>
          </a:xfrm>
        </p:grpSpPr>
        <p:sp>
          <p:nvSpPr>
            <p:cNvPr id="203" name=""/>
            <p:cNvSpPr/>
            <p:nvPr/>
          </p:nvSpPr>
          <p:spPr>
            <a:xfrm>
              <a:off x="2963880" y="2502000"/>
              <a:ext cx="662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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975040" y="2860560"/>
              <a:ext cx="662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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894040" y="3598920"/>
              <a:ext cx="56664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2833560" y="3333600"/>
            <a:ext cx="780840" cy="1618200"/>
            <a:chOff x="2833560" y="3333600"/>
            <a:chExt cx="780840" cy="1618200"/>
          </a:xfrm>
        </p:grpSpPr>
        <p:sp>
          <p:nvSpPr>
            <p:cNvPr id="207" name=""/>
            <p:cNvSpPr/>
            <p:nvPr/>
          </p:nvSpPr>
          <p:spPr>
            <a:xfrm>
              <a:off x="2941560" y="3760560"/>
              <a:ext cx="65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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955600" y="3333600"/>
              <a:ext cx="65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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833560" y="4462200"/>
              <a:ext cx="62532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500"/>
                            </p:stCondLst>
                            <p:childTnLst>
                              <p:par>
                                <p:cTn id="7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2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01920" y="2200320"/>
            <a:ext cx="125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3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747960" y="2193840"/>
            <a:ext cx="8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41760" y="2222640"/>
            <a:ext cx="218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= 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2681280" y="1550880"/>
            <a:ext cx="780840" cy="1618200"/>
            <a:chOff x="2681280" y="1550880"/>
            <a:chExt cx="780840" cy="1618200"/>
          </a:xfrm>
        </p:grpSpPr>
        <p:sp>
          <p:nvSpPr>
            <p:cNvPr id="215" name=""/>
            <p:cNvSpPr/>
            <p:nvPr/>
          </p:nvSpPr>
          <p:spPr>
            <a:xfrm>
              <a:off x="2789280" y="1977840"/>
              <a:ext cx="65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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803320" y="1550880"/>
              <a:ext cx="65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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681280" y="2679480"/>
              <a:ext cx="6253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193680" y="622440"/>
            <a:ext cx="8950320" cy="2104920"/>
            <a:chOff x="193680" y="622440"/>
            <a:chExt cx="8950320" cy="2104920"/>
          </a:xfrm>
        </p:grpSpPr>
        <p:sp>
          <p:nvSpPr>
            <p:cNvPr id="219" name=""/>
            <p:cNvSpPr/>
            <p:nvPr/>
          </p:nvSpPr>
          <p:spPr>
            <a:xfrm>
              <a:off x="193680" y="622440"/>
              <a:ext cx="895032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6600"/>
                  </a:solidFill>
                  <a:latin typeface="Times New Roman"/>
                </a:rPr>
                <a:t>5.  Is 3.29 a reasonable quotient for                    </a:t>
              </a:r>
              <a:r>
                <a:rPr b="0" lang="en-US" sz="4400" spc="-1" strike="noStrike">
                  <a:solidFill>
                    <a:srgbClr val="006600"/>
                  </a:solidFill>
                  <a:latin typeface="Times New Roman"/>
                </a:rPr>
                <a:t>	</a:t>
              </a:r>
              <a:r>
                <a:rPr b="0" lang="en-US" sz="4400" spc="-1" strike="noStrike">
                  <a:solidFill>
                    <a:srgbClr val="006600"/>
                  </a:solidFill>
                  <a:latin typeface="Times New Roman"/>
                </a:rPr>
                <a:t>31.423      5.94?  Explain.       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0" name=""/>
                <p:cNvSpPr txBox="1"/>
                <p:nvPr/>
              </p:nvSpPr>
              <p:spPr>
                <a:xfrm>
                  <a:off x="2873520" y="1395360"/>
                  <a:ext cx="622080" cy="62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sp>
        <p:nvSpPr>
          <p:cNvPr id="221" name=""/>
          <p:cNvSpPr/>
          <p:nvPr/>
        </p:nvSpPr>
        <p:spPr>
          <a:xfrm>
            <a:off x="1865160" y="4125960"/>
            <a:ext cx="346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Times New Roman"/>
              </a:rPr>
              <a:t>It should have been closer to 5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952720" y="3243240"/>
            <a:ext cx="609480" cy="8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02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NO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1538280"/>
            <a:ext cx="9144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age 125, 3 – 1 #1-13, 14-46 eve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age 129, 3 – 2 #1-8, 10-30 ev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1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Round each number to the given place valu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190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1. Round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8.7398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to the nearest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00320" y="1204920"/>
            <a:ext cx="85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73360" y="1833480"/>
            <a:ext cx="345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0840" y="1903320"/>
            <a:ext cx="201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a. ten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36560" y="5943600"/>
            <a:ext cx="254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8.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600280"/>
            <a:ext cx="4268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Times New Roman"/>
              </a:rPr>
              <a:t>Since the 3 in the hundredths place is lower than 5, the 7 in the tenths place stays a 7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4782960"/>
            <a:ext cx="464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Times New Roman"/>
              </a:rPr>
              <a:t>        </a:t>
            </a:r>
            <a:r>
              <a:rPr b="0" lang="en-US" sz="3600" spc="-1" strike="noStrike">
                <a:solidFill>
                  <a:srgbClr val="663300"/>
                </a:solidFill>
                <a:latin typeface="Times New Roman"/>
              </a:rPr>
              <a:t>Drop everything past the 7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915080" y="190332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b. integ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230800" y="5943600"/>
            <a:ext cx="254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4240" y="2600280"/>
            <a:ext cx="4268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Times New Roman"/>
              </a:rPr>
              <a:t>Since the 7 in the tenths place is higher than 5, the 8 in the ones place becomes a 9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4240" y="4782960"/>
            <a:ext cx="464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800080"/>
                </a:solidFill>
                <a:latin typeface="Times New Roman"/>
              </a:rPr>
              <a:t>Drop everything past the decim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1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Round each number to the given place valu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190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2. Round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7,098.56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to the nearest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11440" y="1190520"/>
            <a:ext cx="85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932200" y="1833480"/>
            <a:ext cx="438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20840" y="1903320"/>
            <a:ext cx="292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a. hundr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79560" y="5943600"/>
            <a:ext cx="254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7,1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600280"/>
            <a:ext cx="4268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Times New Roman"/>
              </a:rPr>
              <a:t>Since the 9 in the tens place is higher than 5, the 0 in the hundreds place becomes a 1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4782960"/>
            <a:ext cx="4649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Times New Roman"/>
              </a:rPr>
              <a:t>Everything behind the 1 becomes a 0 up to the decim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1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Round each number to the given place valu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190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2. Round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7,098.56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to the near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87760" y="1189080"/>
            <a:ext cx="85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98880" y="1817640"/>
            <a:ext cx="345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20840" y="1903320"/>
            <a:ext cx="29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a. hundr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863720" y="5943600"/>
            <a:ext cx="254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7,1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2600280"/>
            <a:ext cx="4268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Times New Roman"/>
              </a:rPr>
              <a:t>Since the 9 in the tens place is higher than 5, the 0 in the hundreds place becomes a 1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4782960"/>
            <a:ext cx="4649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Times New Roman"/>
              </a:rPr>
              <a:t>Everything behind the 1 becomes a 0 up to the decim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15080" y="190332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b. ten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230800" y="5943600"/>
            <a:ext cx="263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7,098.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94240" y="2600280"/>
            <a:ext cx="4649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Times New Roman"/>
              </a:rPr>
              <a:t>Since the 6 in the hundredths place is higher than 5, the 5 in the tenths place becomes a 6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94240" y="4782960"/>
            <a:ext cx="464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Times New Roman"/>
              </a:rPr>
              <a:t>                      </a:t>
            </a:r>
            <a:r>
              <a:rPr b="0" lang="en-US" sz="3600" spc="-1" strike="noStrike">
                <a:solidFill>
                  <a:srgbClr val="800080"/>
                </a:solidFill>
                <a:latin typeface="Times New Roman"/>
              </a:rPr>
              <a:t>Drop everything past the 5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1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3. Estimate by Rounding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6120" y="1179360"/>
            <a:ext cx="261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a.  $4.89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04960" y="2616120"/>
            <a:ext cx="1931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97120" y="2546280"/>
            <a:ext cx="122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$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1782720"/>
            <a:ext cx="178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$3.8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2720" y="1816200"/>
            <a:ext cx="238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Symbol"/>
                <a:ea typeface="Symbol"/>
              </a:rPr>
              <a:t>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29160" y="1184400"/>
            <a:ext cx="156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$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91000" y="1803240"/>
            <a:ext cx="156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$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87" idx="3"/>
            <a:endCxn id="92" idx="1"/>
          </p:cNvCxnSpPr>
          <p:nvPr/>
        </p:nvCxnSpPr>
        <p:spPr>
          <a:xfrm>
            <a:off x="2890440" y="1636560"/>
            <a:ext cx="739080" cy="5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endCxn id="93" idx="1"/>
          </p:cNvCxnSpPr>
          <p:nvPr/>
        </p:nvCxnSpPr>
        <p:spPr>
          <a:xfrm flipV="1">
            <a:off x="2730600" y="2260080"/>
            <a:ext cx="861120" cy="8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3500280" y="2622600"/>
            <a:ext cx="1290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14720" y="1828800"/>
            <a:ext cx="65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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6120" y="3740040"/>
            <a:ext cx="293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b.  453.56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804960" y="5162400"/>
            <a:ext cx="2206440" cy="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008600" y="5091120"/>
            <a:ext cx="122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22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4343400"/>
            <a:ext cx="216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230.0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2720" y="4376880"/>
            <a:ext cx="238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40280" y="3728880"/>
            <a:ext cx="156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45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002120" y="4348080"/>
            <a:ext cx="156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23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98" idx="3"/>
            <a:endCxn id="103" idx="1"/>
          </p:cNvCxnSpPr>
          <p:nvPr/>
        </p:nvCxnSpPr>
        <p:spPr>
          <a:xfrm flipV="1">
            <a:off x="3209400" y="4185360"/>
            <a:ext cx="831240" cy="11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endCxn id="104" idx="1"/>
          </p:cNvCxnSpPr>
          <p:nvPr/>
        </p:nvCxnSpPr>
        <p:spPr>
          <a:xfrm flipV="1">
            <a:off x="3141720" y="4804920"/>
            <a:ext cx="861120" cy="8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911760" y="5167440"/>
            <a:ext cx="1290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525840" y="4373640"/>
            <a:ext cx="65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1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4. Estimate by Front-End Estimatio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6120" y="1179360"/>
            <a:ext cx="261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a.  14.39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04960" y="2616120"/>
            <a:ext cx="2344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57480" y="2546280"/>
            <a:ext cx="122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1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1782720"/>
            <a:ext cx="209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79.10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2720" y="1816200"/>
            <a:ext cx="238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Symbol"/>
                <a:ea typeface="Symbol"/>
              </a:rPr>
              <a:t>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89520" y="1184400"/>
            <a:ext cx="156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51360" y="1803240"/>
            <a:ext cx="156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1" idx="3"/>
            <a:endCxn id="116" idx="1"/>
          </p:cNvCxnSpPr>
          <p:nvPr/>
        </p:nvCxnSpPr>
        <p:spPr>
          <a:xfrm>
            <a:off x="2890800" y="1636560"/>
            <a:ext cx="1099440" cy="5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endCxn id="117" idx="1"/>
          </p:cNvCxnSpPr>
          <p:nvPr/>
        </p:nvCxnSpPr>
        <p:spPr>
          <a:xfrm flipV="1">
            <a:off x="3090960" y="2260080"/>
            <a:ext cx="861120" cy="8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3860640" y="2622600"/>
            <a:ext cx="1290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75080" y="1828800"/>
            <a:ext cx="65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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76120" y="3740040"/>
            <a:ext cx="293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b.  2.298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804960" y="5162400"/>
            <a:ext cx="2206440" cy="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703680" y="5122800"/>
            <a:ext cx="122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1.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66680" y="4343400"/>
            <a:ext cx="216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7.75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2720" y="4376880"/>
            <a:ext cx="238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Symbol"/>
                <a:ea typeface="Symbol"/>
              </a:rPr>
              <a:t>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040280" y="3728880"/>
            <a:ext cx="156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.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002120" y="4348080"/>
            <a:ext cx="156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.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22" idx="3"/>
            <a:endCxn id="127" idx="1"/>
          </p:cNvCxnSpPr>
          <p:nvPr/>
        </p:nvCxnSpPr>
        <p:spPr>
          <a:xfrm flipV="1">
            <a:off x="3209400" y="4185360"/>
            <a:ext cx="831240" cy="11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endCxn id="128" idx="1"/>
          </p:cNvCxnSpPr>
          <p:nvPr/>
        </p:nvCxnSpPr>
        <p:spPr>
          <a:xfrm flipV="1">
            <a:off x="3141720" y="4804920"/>
            <a:ext cx="861120" cy="8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3911760" y="5167440"/>
            <a:ext cx="1290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25840" y="4373640"/>
            <a:ext cx="65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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82520" y="1177920"/>
            <a:ext cx="42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1785960"/>
            <a:ext cx="4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12760" y="2519280"/>
            <a:ext cx="1003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8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25880" y="2482920"/>
            <a:ext cx="65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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54760" y="2530440"/>
            <a:ext cx="218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= 9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28600" y="3736800"/>
            <a:ext cx="42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4346640"/>
            <a:ext cx="4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98720" y="5124600"/>
            <a:ext cx="100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57400" y="5041800"/>
            <a:ext cx="65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Symbol"/>
                <a:ea typeface="Symbol"/>
              </a:rPr>
              <a:t>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86280" y="5089680"/>
            <a:ext cx="218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= 10.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1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5. Estimate by Clustering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8640" y="1103400"/>
            <a:ext cx="825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a.  $4.50 + $5.20 + $5.55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18684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Times New Roman"/>
              </a:rPr>
              <a:t>Since all of them are close to $5, you can multipl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54280" y="2962440"/>
            <a:ext cx="93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$5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98920" y="2948040"/>
            <a:ext cx="93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14600" y="2962440"/>
            <a:ext cx="93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3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41640" y="2925720"/>
            <a:ext cx="218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= $1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4008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.  26.7 + 26.2 + 24.52 + 25.25 +23.9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48657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Times New Roman"/>
              </a:rPr>
              <a:t>Since all of them are close to 25, you can multipl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54280" y="5943600"/>
            <a:ext cx="93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25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698920" y="5929200"/>
            <a:ext cx="93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414600" y="5943600"/>
            <a:ext cx="93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5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41640" y="5907240"/>
            <a:ext cx="218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= 12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2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1. Estimate by Rounding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181240" y="1149480"/>
            <a:ext cx="1608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6.43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795840" y="1127160"/>
            <a:ext cx="178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4.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17840" y="719280"/>
            <a:ext cx="66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Symbol"/>
                <a:ea typeface="Symbol"/>
              </a:rPr>
              <a:t>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87600" y="1762200"/>
            <a:ext cx="70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49840" y="1771560"/>
            <a:ext cx="8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06880" y="1355760"/>
            <a:ext cx="65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3300"/>
                </a:solidFill>
                <a:latin typeface="Symbol"/>
                <a:ea typeface="Symbol"/>
              </a:rPr>
              <a:t>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83160" y="1752480"/>
            <a:ext cx="218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= 3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054840" y="847800"/>
            <a:ext cx="3333600" cy="33336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2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93680" y="622440"/>
            <a:ext cx="6539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2. Joshua bought 3 yards of fabric to make a dress. The fabric cost $5.65/yd. The clerk said his total was $14.95 before tax. Did the clerk make a mistake? Explai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50800" y="3603600"/>
            <a:ext cx="1608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5.65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65400" y="3581280"/>
            <a:ext cx="178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817640" y="3201840"/>
            <a:ext cx="66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Symbol"/>
                <a:ea typeface="Symbol"/>
              </a:rPr>
              <a:t>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57160" y="4216320"/>
            <a:ext cx="70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19400" y="4226040"/>
            <a:ext cx="8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76440" y="3809880"/>
            <a:ext cx="65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3300"/>
                </a:solidFill>
                <a:latin typeface="Symbol"/>
                <a:ea typeface="Symbol"/>
              </a:rPr>
              <a:t>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952720" y="4206960"/>
            <a:ext cx="218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= 1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55720" y="4948200"/>
            <a:ext cx="70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17600" y="4957920"/>
            <a:ext cx="8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74640" y="4541760"/>
            <a:ext cx="65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3300"/>
                </a:solidFill>
                <a:latin typeface="Symbol"/>
                <a:ea typeface="Symbol"/>
              </a:rPr>
              <a:t>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51280" y="4938840"/>
            <a:ext cx="218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Times New Roman"/>
              </a:rPr>
              <a:t>= 1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264280" y="4765680"/>
            <a:ext cx="3460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Times New Roman"/>
              </a:rPr>
              <a:t>It should have cost between $15 and $18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351480" y="3882960"/>
            <a:ext cx="609840" cy="8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02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YES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 SKELTON</cp:lastModifiedBy>
  <dcterms:modified xsi:type="dcterms:W3CDTF">2004-09-21T22:10:59Z</dcterms:modified>
  <cp:revision>50</cp:revision>
  <dc:subject/>
  <dc:title>Slide 1</dc:title>
</cp:coreProperties>
</file>